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05BE-A4AD-4698-8966-57046111D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D65A-3BAF-4806-84CF-4EDE49E91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9359-529B-48C0-BBD4-3967C2147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7738-1697-4CDA-ABC9-CBCB24C16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432E-6AFA-49AE-B4B3-7ADAC6518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BCD4-2837-42C5-BA90-3D20C8517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42C6-79E4-4AFA-A810-EB88886689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5864-93DE-4C44-B057-480090DC8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B0F3-53ED-46F7-8691-F6FA70040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F5D0-9540-4757-BE56-F96EEF5ED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EBF-9A66-4552-AFD2-ECB6A79F1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5D96-BC81-422A-BEAD-9ED72B34F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185C-33DD-4A9F-A425-5D4B36B0B6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62A6-6463-4DD0-8494-831A870949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5CA-6B6E-4E72-9037-E565A1D36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AD21-2D39-4D46-B9B8-9A157BD67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946B-9BB9-42C5-A051-B402EA1A8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2B21-09AF-4385-B04C-91F9860B0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6D94-4837-4BE6-802F-2FE460174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A25-3BD3-478B-99E0-348F88AC8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FB47-91B5-450D-AC94-0DE12DC3C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22A7-E9E0-4903-AD16-004B8E8FE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0D6B-2DEE-46A5-8243-39CFB3386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A12B-51F3-43F7-8EA0-41C29503C5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91AD-895F-42A3-BB52-774FE015B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75E2-6293-4C90-870F-A45F40085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65A2-110F-44D1-BEAC-E7507DDF7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2ED9-EDCB-47EC-BAE7-219644BB4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02FC-507C-40AD-91AA-698C4812DC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698D-41E4-4F19-9C32-F6356FF22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74E1-6251-4E8A-83A7-9A4EBD70A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F29-197D-4F65-B715-5B752671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7F4-0DA6-45B7-8809-746C4193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932-4E6A-42A3-B01C-0B2EC8F3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F7E-A5C5-4AB5-BD40-EEE59628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0A2-BD00-410C-ADEF-D9674F87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889-5762-4AE7-87B6-C7A4DA27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DBA-3538-4DDE-9BBF-DF6B67D9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072-F541-453B-A29C-CEA5B969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147-64AF-4C9A-B939-68015B55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61F-80DB-4F0D-9476-3090587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417-4E82-46F0-A031-261F4F77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E93-A28D-49C9-A387-DE04EFA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7A5C-1E29-4E26-94EC-E0C0982B24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539640" y="371628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6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1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RomaK</cp:lastModifiedBy>
  <dcterms:modified xsi:type="dcterms:W3CDTF">2015-08-06T10:56:26Z</dcterms:modified>
  <cp:revision>8</cp:revision>
  <dc:subject/>
  <dc:title>Slide 1</dc:title>
</cp:coreProperties>
</file>